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93A0-3058-4BD6-9D3D-92170D35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59E5-D9C3-4A73-9BA4-4D1355EC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2D6-D641-49A7-A00B-BD4C3A2D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6962-ABD1-4BCF-8EC3-E2D23662A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C51-AB5E-409F-B1D5-2C4226F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178A-47AB-4B43-A177-C20DC1E0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3A04-0A1B-442E-BEFC-D5CCB21E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302E-07A4-45AE-88E8-771BE4222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1E6A-0776-49E1-8A9E-D5D9DB27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23D8-2546-4A08-9CB4-9BE28107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FE1-9CB0-40F5-9D43-7F9B39CC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0EFB-1643-4B01-A6B2-2FF9918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47da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47da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47da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291B-C45C-40E0-AF72-6C2A96CF7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8080" y="609480"/>
            <a:ext cx="807732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457200"/>
            <a:ext cx="8229600" cy="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84640" y="163440"/>
            <a:ext cx="416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7dab"/>
                </a:solidFill>
                <a:latin typeface="Arial"/>
              </a:rPr>
              <a:t>The South African National Bioinformatics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38088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533520" y="838080"/>
            <a:ext cx="0" cy="5791320"/>
          </a:xfrm>
          <a:prstGeom prst="line">
            <a:avLst/>
          </a:prstGeom>
          <a:ln w="19080">
            <a:solidFill>
              <a:srgbClr val="cfde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1755720" y="0"/>
            <a:ext cx="7391520" cy="739152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1752480"/>
            <a:ext cx="8686800" cy="4191120"/>
          </a:xfrm>
          <a:prstGeom prst="rect">
            <a:avLst/>
          </a:prstGeom>
          <a:solidFill>
            <a:srgbClr val="e2f0ff">
              <a:alpha val="50000"/>
            </a:srgbClr>
          </a:solidFill>
          <a:ln w="0">
            <a:noFill/>
          </a:ln>
          <a:effectLst>
            <a:outerShdw dist="253893" dir="2461984" blurRad="0" rotWithShape="0">
              <a:srgbClr val="c9d6e5">
                <a:alpha val="7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aprisa.org/" TargetMode="External"/><Relationship Id="rId2" Type="http://schemas.openxmlformats.org/officeDocument/2006/relationships/hyperlink" Target="http://www.saavi.org.za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vocontology.org/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319040"/>
            <a:ext cx="8763120" cy="4929480"/>
          </a:xfrm>
          <a:prstGeom prst="rect">
            <a:avLst/>
          </a:prstGeom>
          <a:ln w="0">
            <a:noFill/>
          </a:ln>
          <a:effectLst>
            <a:outerShdw dist="254049" dir="2700000" blurRad="0" rotWithShape="0">
              <a:srgbClr val="547dab"/>
            </a:outerShdw>
          </a:effectLst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A couple of words on</a:t>
            </a:r>
            <a:br>
              <a:rPr sz="4400"/>
            </a:b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HIV at SANBI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6200" y="990720"/>
            <a:ext cx="1096920" cy="1371600"/>
          </a:xfrm>
          <a:prstGeom prst="rect">
            <a:avLst/>
          </a:prstGeom>
          <a:ln w="0">
            <a:noFill/>
          </a:ln>
          <a:effectLst>
            <a:outerShdw dist="76367" dir="2700000" blurRad="0" rotWithShape="0">
              <a:srgbClr val="808080">
                <a:alpha val="25000"/>
              </a:srgbClr>
            </a:outerShdw>
          </a:effectLst>
        </p:spPr>
      </p:pic>
      <p:sp>
        <p:nvSpPr>
          <p:cNvPr id="52" name=""/>
          <p:cNvSpPr/>
          <p:nvPr/>
        </p:nvSpPr>
        <p:spPr>
          <a:xfrm>
            <a:off x="0" y="4572000"/>
            <a:ext cx="9144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na Lehväslai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4ae79"/>
                </a:solidFill>
                <a:latin typeface="Arial"/>
              </a:rPr>
              <a:t>SANBI, University of the Western 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kshop on the Representation of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nford 1-Dec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Describing HIV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Infection / diagnosis / progress / treat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atient information / tissue samples / pathogen inform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Medic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ANBI Contributor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8160" cy="42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lan Kamau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Adele Krug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lan Powell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Ulf Schaf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Anelda Boardman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  <a:ea typeface="ヒラギノ角ゴ Pro W3"/>
              </a:rPr>
              <a:t>Minna 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Lehväslaiho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Heikki Lehväslaiho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Oliver Hofman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Win Hide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lvl="3" marL="172548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0"/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840" indent="0">
              <a:lnSpc>
                <a:spcPct val="91000"/>
              </a:lnSpc>
              <a:spcBef>
                <a:spcPts val="799"/>
              </a:spcBef>
              <a:buNone/>
              <a:tabLst>
                <a:tab algn="l" pos="363600"/>
                <a:tab algn="l" pos="820800"/>
                <a:tab algn="l" pos="1278000"/>
                <a:tab algn="l" pos="1735200"/>
                <a:tab algn="l" pos="2192400"/>
                <a:tab algn="l" pos="2649600"/>
                <a:tab algn="l" pos="3106800"/>
                <a:tab algn="l" pos="3564000"/>
                <a:tab algn="l" pos="4021200"/>
                <a:tab algn="l" pos="4478400"/>
                <a:tab algn="l" pos="4935600"/>
                <a:tab algn="l" pos="5392800"/>
                <a:tab algn="l" pos="5850000"/>
                <a:tab algn="l" pos="6307200"/>
                <a:tab algn="l" pos="6764400"/>
                <a:tab algn="l" pos="7221600"/>
                <a:tab algn="l" pos="7678800"/>
                <a:tab algn="l" pos="8136000"/>
                <a:tab algn="l" pos="8593200"/>
                <a:tab algn="l" pos="9050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3030"/>
                </a:solidFill>
                <a:latin typeface="Arial"/>
              </a:rPr>
              <a:t>1 December 2006</a:t>
            </a:r>
            <a:br>
              <a:rPr sz="3200"/>
            </a:br>
            <a:r>
              <a:rPr b="0" lang="en-US" sz="4400" spc="-1" strike="noStrike">
                <a:solidFill>
                  <a:srgbClr val="b33030"/>
                </a:solidFill>
                <a:latin typeface="Arial"/>
              </a:rPr>
              <a:t>World AIDS day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 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5.5 million out of 47 million population was living with HIV (12%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HIV prevalence among pregnant women: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0: 0.8% (The first national antenatal survey)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3: 4.3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6: 12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7: 17.0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1999: 22.4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1: 24.8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3: 27.9%.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547dab"/>
                </a:solidFill>
                <a:latin typeface="Arial"/>
              </a:rPr>
              <a:t>2005: 30.2%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Some South African statistics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South Africans spend more time at funerals than having their hair cut, shopping or having a braai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urvey in 2004: more than twice as many people had been to a funeral in the past month than had been to a wedding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Vice president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prevention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take a shower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alth minister’s 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cure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547dab"/>
                </a:solidFill>
                <a:latin typeface="Arial"/>
              </a:rPr>
              <a:t>Garlic, lemons and African potato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most prevalent strain in Africa is the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 C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which is more aggressive and more easily spreads via heterosexual contact than the </a:t>
            </a:r>
            <a:r>
              <a:rPr b="0" lang="en-US" sz="2400" spc="-1" strike="noStrike">
                <a:solidFill>
                  <a:srgbClr val="b3303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 strain found in Europe and U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South Americ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C strain: Africa -&gt; India -&gt; Chin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What’s being done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rganizations such the International Red Cross and Red Crescent focus on prevention, care, treatment, and fighting stigma and discrimination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Government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South African National Bioinformatics Institute: CAPRISA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aprisa.org/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547dab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and SAAVI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aavi.org.za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MID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The Molecular Integration Database for HIV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47dab"/>
                </a:solidFill>
                <a:latin typeface="Arial"/>
              </a:rPr>
              <a:t>Purpose: to integrate HIV biomedical information created by several laboratories into one query enabled interface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he level of organization in MID is that it is a relational database with a BIoMart query interface and a glossary of term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tential for developing and contributing to host/pathogen ontology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eVOC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Built as ontologies for human gene expression</a:t>
            </a:r>
            <a:r>
              <a:rPr b="1" lang="en-US" sz="2400" spc="-1" strike="noStrike">
                <a:solidFill>
                  <a:srgbClr val="547dab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to unify gene expression dat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eVOC Pathology describes the pathological state of the tissue from which the sample was prepared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vocontology.org/</a:t>
            </a: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a6f98"/>
                </a:solidFill>
                <a:latin typeface="Arial"/>
              </a:rPr>
              <a:t>PML</a:t>
            </a:r>
            <a:endParaRPr b="0" lang="en-US" sz="4400" spc="-1" strike="noStrike">
              <a:solidFill>
                <a:srgbClr val="4a6f9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olymorphism Markup Language Project, PML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OMG Standard for Sequence variation and genotyping. It’s created in collaboration with SNP and sequence variation databases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PML tries to be able to interface to ontologies used in healthcare.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47d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7dab"/>
                </a:solidFill>
                <a:latin typeface="Arial"/>
              </a:rPr>
              <a:t>www.openpml.org (not active yet) or contact Heikki@sanbi.ac.za</a:t>
            </a: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7da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7:41:53Z</dcterms:created>
  <dc:creator>anelda</dc:creator>
  <dc:description/>
  <dc:language>en-US</dc:language>
  <cp:lastModifiedBy>anelda</cp:lastModifiedBy>
  <dcterms:modified xsi:type="dcterms:W3CDTF">2006-12-02T17:14:59Z</dcterms:modified>
  <cp:revision>158</cp:revision>
  <dc:subject/>
  <dc:title>PowerPoint Presentation</dc:title>
</cp:coreProperties>
</file>